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E716E-DB71-46DF-83D5-639CB17CD9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1040A-FCD0-442E-BC09-931837A394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A6F0-74A8-4D2D-81FF-8D3954287C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639C5-39A4-4B18-AFD1-E19F640846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DE41B-B32C-475D-A701-AD3B2F0320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7632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FBD03-05A3-4BA4-86F9-16F62B233B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E68A2-00FA-4B18-A87B-2FC7132BCC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02689-8EAA-47FA-BF71-728FE00F8C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FB804-D098-4769-8407-159C518AC5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ABDBC-9F82-4717-82BE-D7660D646C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ECD2-7CBA-4028-A569-5F74EA6C5A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184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316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184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316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87EA6-ED5C-4833-8F02-85979D225E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32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609120" y="844560"/>
            <a:ext cx="1218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857160">
              <a:spcBef>
                <a:spcPts val="1199"/>
              </a:spcBef>
              <a:buClr>
                <a:srgbClr val="010000"/>
              </a:buClr>
              <a:buFont typeface="Arial"/>
              <a:buChar char="•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3" marL="971640">
              <a:spcBef>
                <a:spcPts val="1199"/>
              </a:spcBef>
              <a:buClr>
                <a:srgbClr val="010000"/>
              </a:buClr>
              <a:buFont typeface="Arial Narrow"/>
              <a:buChar char="–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4" marL="1317600">
              <a:spcBef>
                <a:spcPts val="1199"/>
              </a:spcBef>
              <a:buClr>
                <a:srgbClr val="cc00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5" marL="1317600">
              <a:spcBef>
                <a:spcPts val="1199"/>
              </a:spcBef>
              <a:buClr>
                <a:srgbClr val="0099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6" marL="1317600">
              <a:spcBef>
                <a:spcPts val="1199"/>
              </a:spcBef>
              <a:buClr>
                <a:srgbClr val="0099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Copyright © Craig Larman. 2000   All Rights Reserved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148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E1CA-0D8A-4E29-A3C5-11F4042B92F3}" type="slidenum">
              <a:rPr b="0" lang="en-US" sz="1000" spc="-1" strike="noStrike">
                <a:solidFill>
                  <a:srgbClr val="99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0" y="2895480"/>
            <a:ext cx="9145800" cy="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1"/>
          </p:nvPr>
        </p:nvSpPr>
        <p:spPr>
          <a:xfrm>
            <a:off x="228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9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148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7A01-516F-49B0-90FA-2A783E71C9F0}" type="slidenum">
              <a:rPr b="0" lang="en-US" sz="1000" spc="-1" strike="noStrike">
                <a:solidFill>
                  <a:srgbClr val="99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Copyright © Craig Larman. 2000   All Rights Reserved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609120" y="839880"/>
            <a:ext cx="1218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1199"/>
              </a:spcBef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57160" algn="ctr">
              <a:spcBef>
                <a:spcPts val="1199"/>
              </a:spcBef>
              <a:buClr>
                <a:srgbClr val="010000"/>
              </a:buClr>
              <a:buFont typeface="Arial"/>
              <a:buChar char="•"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3" marL="971640" algn="ctr">
              <a:buClr>
                <a:srgbClr val="010000"/>
              </a:buClr>
              <a:buFont typeface="Arial Narrow"/>
              <a:buChar char="–"/>
              <a:tabLst>
                <a:tab algn="l" pos="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010000"/>
              </a:solidFill>
              <a:latin typeface="Arial Narrow"/>
            </a:endParaRPr>
          </a:p>
          <a:p>
            <a:pPr lvl="4" marL="1317600" algn="ctr">
              <a:spcBef>
                <a:spcPts val="499"/>
              </a:spcBef>
              <a:buClr>
                <a:srgbClr val="cc0099"/>
              </a:buClr>
              <a:buFont typeface="Arial"/>
              <a:buChar char="»"/>
              <a:tabLst>
                <a:tab algn="l" pos="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  <a:tab algn="l" pos="4622760"/>
                <a:tab algn="l" pos="48006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  <a:p>
            <a:pPr lvl="5" marL="1317600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  <a:p>
            <a:pPr lvl="6" marL="1317600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Use Cases</a:t>
            </a:r>
            <a:endParaRPr b="1" lang="en-US" sz="4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67080" y="32004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Relating Use Case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When creating the use case diagram, it can be useful (in terms of comprehension and simplification) to: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factor out shared sub-processe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57160" indent="0"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use the &lt;&lt;includes&gt;&gt; relationship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857160" indent="0"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how precedence order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57160" indent="0"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use the &lt;&lt;extends&gt;&gt; relationship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52480" y="152280"/>
          <a:ext cx="50212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280"/>
                    <a:ext cx="50212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ypes: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business use case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ystem use cases (our focus)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Use cases tell a story of actors using a system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y illustrate functional requirements, by the stories they tell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omplementary with a function requirement list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Identifying Use Case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Major distinct, complete, end-to-end processes of using a system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Not usually one step, but a complete story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ommon “mistake”!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Examples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Rent Video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Return Video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Pay Fine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Use Case Diagram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6672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 way to conceive and illustrate the use case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Usually created during the initial use case analysi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124080" y="762120"/>
          <a:ext cx="6248520" cy="58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762120"/>
                    <a:ext cx="6248520" cy="58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A Sample Detailed Use Case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54280" y="609480"/>
          <a:ext cx="5105160" cy="629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609480"/>
                    <a:ext cx="5105160" cy="62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A Sample Summary Use Case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ame principles a detailed use case, but simplifies steps and details, as a low-fidelity incomplete first draft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Useful during early requirements and scope analysi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3184560"/>
            <a:ext cx="4114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10000"/>
                </a:solidFill>
                <a:uFillTx/>
                <a:latin typeface="Arial"/>
              </a:rPr>
              <a:t>System Responsibilitie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3. Remember rented items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4. Calculate and present price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6. Authorize and record payment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3108240"/>
            <a:ext cx="46483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10000"/>
                </a:solidFill>
                <a:uFillTx/>
                <a:latin typeface="Arial"/>
              </a:rPr>
              <a:t>Actor Intention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1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Customer presents items to rent.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1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Clerk records items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1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1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Customer pays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Use Case Form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hort, “high-level”, summary form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Write most of them in this form during Inception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Write a few keys ones in the detailed form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Long, “expanded”, detailed form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Write them this way during Elaboration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Use Miscellany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imple “CRUD” use cases can be combined into one “Maintain &lt;X&gt;”. 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Maintain Inventory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tart name with a verb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tart with sentence 1 with “&lt;Actor&gt; does &lt;event&gt;”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ll systems have a </a:t>
            </a:r>
            <a:r>
              <a:rPr b="1" i="1" lang="en-US" sz="2600" spc="-1" strike="noStrike">
                <a:solidFill>
                  <a:srgbClr val="010000"/>
                </a:solidFill>
                <a:latin typeface="Arial"/>
              </a:rPr>
              <a:t>Start Up</a:t>
            </a: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i="1" lang="en-US" sz="2600" spc="-1" strike="noStrike">
                <a:solidFill>
                  <a:srgbClr val="010000"/>
                </a:solidFill>
                <a:latin typeface="Arial"/>
              </a:rPr>
              <a:t>Shut Down</a:t>
            </a: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 use case (perhaps trivial)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Essential and Concrete Use Case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i="1" lang="en-US" sz="2600" spc="-1" strike="noStrike">
                <a:solidFill>
                  <a:srgbClr val="010000"/>
                </a:solidFill>
                <a:latin typeface="Arial"/>
              </a:rPr>
              <a:t>Essential</a:t>
            </a: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 use cases defer the details of the UI, and focus on the </a:t>
            </a:r>
            <a:r>
              <a:rPr b="1" i="1" lang="en-US" sz="2600" spc="-1" strike="noStrike">
                <a:solidFill>
                  <a:srgbClr val="010000"/>
                </a:solidFill>
                <a:latin typeface="Arial"/>
              </a:rPr>
              <a:t>intentions</a:t>
            </a: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 of the actors, and responsibilities of the system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oncrete (AKA Real) do not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Essential: “The AccountHolder identifies themselves to the ATM”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Real: “The AccountHolder inserts their card in the reader. Window A is displayed. They enter their PIN on the numeric keypad, …”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s we move from analysis to design, we are more inclined to move from essential to concrete use case description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7T15:39:37Z</dcterms:created>
  <dc:creator>Craig Larman</dc:creator>
  <dc:description/>
  <dc:language>en-US</dc:language>
  <cp:lastModifiedBy>Craig Larman</cp:lastModifiedBy>
  <dcterms:modified xsi:type="dcterms:W3CDTF">2000-07-31T22:29:21Z</dcterms:modified>
  <cp:revision>10</cp:revision>
  <dc:subject/>
  <dc:title>No Slide Title</dc:title>
</cp:coreProperties>
</file>