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3B8E-45D6-4E07-A1E5-57971DD6F8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B4D1-884B-4321-9C11-36E44480E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1715-C337-4378-84B7-F31E7F71A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D014-C4ED-4763-B219-27F257145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936C-926D-4D7D-8A9F-32EAF7B20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87AD-8E9E-48B6-9719-CD8200165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35AA-343F-4035-A64C-C2CBF7A6D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079D-3348-428D-8004-9636FE7B13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2D4C-BD42-4BE9-8BDB-78B36E2165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1CC7-967A-430A-9ECC-659C5FB5C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C524-4D29-4EBC-93C2-FF0311E74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A6E3-F1BB-4835-AC9B-0B9C2FC7E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F56-B23D-435F-A6CF-D9E299CA3BE5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73E-38A8-421C-9B52-CF0D8AC45D3E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The Design Model, Architectural Views, and the SAD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P Design Model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n object model of software components in the desig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bsystems, layers, packages, classes, interfaces, ev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efore programming, an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inspiration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for the code bas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f reverse-engineered from code, an abstraction or visualization of the code bas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logical view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in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Software Architecture Document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is a subset of the UP Design Model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P Software Architecture Document (SAD)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06440" indent="-40644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An important document in the UP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e Software Architecture Document provides a comprehensive architectural overview of the system, using a number of different architectural views to depict different aspects of the system.”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Architectural Representation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Architectural Goals and Constraints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Use-Case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Logical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Process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Deployment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mplementation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Data View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Size and Performance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Quality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. . . . 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Design Model, SAD, and Iterative Developmen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member! In iterative development, these artifacts are not create once, or fully in an early stag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ather, they start small and incomplet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specially through the Elaboration phase iterations, they grow and matur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y grow out of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programming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experiences of each short iteration, not speculatio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Key idea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 iterative development, the architecture evolves through a combination of partial up-front designs and </a:t>
            </a:r>
            <a:r>
              <a:rPr b="1" i="1" lang="en-US" sz="2400" spc="-1" strike="noStrike">
                <a:solidFill>
                  <a:srgbClr val="010000"/>
                </a:solidFill>
                <a:latin typeface="Arial"/>
              </a:rPr>
              <a:t>programming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iteration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P Architectural View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Logical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bset of Design Model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rchitecturally significant design element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bsystems, layers, packages, summary of framework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se study of a few key use case realization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e.g., scenario interaction diagram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ata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f persistence is significant and not handled auto-magically, and requires considerable planning and work (e.g., schema mapping definition and maintenance)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P Architectural View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oces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l processes, and architecturally significant thread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action diagrams illustrating key scenarios of inter-process collabora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eploymen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hysical network/hardware and the deployment of processes to node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P Architectural View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mplementati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bset of Implementation Mod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scription of the mapping of important architectural elements (layers, subsystems, modules) into physical compon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e.g., JAR file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 Case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bset of the Use Case Mod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rchitecturally significant use cases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seful ??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 this seminar. . .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 do not have time to fully explore the data, process, implementation, and deployment view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 will focus on the design model and its logical view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UML includes notation to visualize all the view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ass diagram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Notation for processes and thread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ployment diagram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ponent diagram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. . 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3T03:38:41Z</dcterms:modified>
  <cp:revision>10</cp:revision>
  <dc:subject/>
  <dc:title>No Slide Title</dc:title>
</cp:coreProperties>
</file>