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184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316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184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316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37009-02CE-42F7-9614-E2A4620601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F8E17-621F-40B7-84F6-46BD3A3429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94976-C7B2-4D32-9C83-8CBF103EA6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B01CA-A418-4439-B611-B90D0CC7A4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DB4E6-5C9A-450A-A6E1-FC6566ADB1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-7632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6255C-862C-4A7F-A4E3-2FB4083C57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D2470-B466-498E-8C17-BCCD45F1C2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7E2B7-F223-4200-82A2-7C4A7BB857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C34A1-1DF0-4522-A012-948E8880D6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0706C-2EAE-4191-A591-442DC3DB69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8A1E5-7C92-4B4F-BB59-379875E62E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184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0316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52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184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0316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7DD1C-6FD7-46BC-9CE1-AD50A3BF75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7632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609120" y="844560"/>
            <a:ext cx="1218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6" y="0"/>
                </a:moveTo>
                <a:arcTo wR="10800" hR="10800" stAng="-5398115" swAng="5398115"/>
                <a:lnTo>
                  <a:pt x="10800" y="10800"/>
                </a:lnTo>
                <a:close/>
              </a:path>
              <a:path fill="none" w="21600" h="21600">
                <a:moveTo>
                  <a:pt x="10806" y="0"/>
                </a:moveTo>
                <a:arcTo wR="10800" hR="10800" stAng="-5398115" swAng="5398115"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857160">
              <a:spcBef>
                <a:spcPts val="1199"/>
              </a:spcBef>
              <a:buClr>
                <a:srgbClr val="010000"/>
              </a:buClr>
              <a:buFont typeface="Arial"/>
              <a:buChar char="•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3" marL="971640">
              <a:spcBef>
                <a:spcPts val="1199"/>
              </a:spcBef>
              <a:buClr>
                <a:srgbClr val="010000"/>
              </a:buClr>
              <a:buFont typeface="Arial Narrow"/>
              <a:buChar char="–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4" marL="1317600">
              <a:spcBef>
                <a:spcPts val="1199"/>
              </a:spcBef>
              <a:buClr>
                <a:srgbClr val="cc00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5" marL="1317600">
              <a:spcBef>
                <a:spcPts val="1199"/>
              </a:spcBef>
              <a:buClr>
                <a:srgbClr val="0099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6" marL="1317600">
              <a:spcBef>
                <a:spcPts val="1199"/>
              </a:spcBef>
              <a:buClr>
                <a:srgbClr val="0099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24852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Copyright © Craig Larman. 2000   All Rights Reserved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11480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8147-0DAE-491D-BDC0-E704195EA424}" type="slidenum">
              <a:rPr b="0" lang="en-US" sz="1000" spc="-1" strike="noStrike">
                <a:solidFill>
                  <a:srgbClr val="99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40" y="2895480"/>
            <a:ext cx="9145800" cy="0"/>
          </a:xfrm>
          <a:prstGeom prst="line">
            <a:avLst/>
          </a:prstGeom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1"/>
          </p:nvPr>
        </p:nvSpPr>
        <p:spPr>
          <a:xfrm>
            <a:off x="228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9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411480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4E9F-C9EB-4429-AD18-AD2A8B75F8EC}" type="slidenum">
              <a:rPr b="0" lang="en-US" sz="1000" spc="-1" strike="noStrike">
                <a:solidFill>
                  <a:srgbClr val="99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Copyright © Craig Larman. 2000   All Rights Reserved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609120" y="839880"/>
            <a:ext cx="1218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6" y="0"/>
                </a:moveTo>
                <a:arcTo wR="10800" hR="10800" stAng="-5398115" swAng="5398115"/>
                <a:lnTo>
                  <a:pt x="10800" y="10800"/>
                </a:lnTo>
                <a:close/>
              </a:path>
              <a:path fill="none" w="21600" h="21600">
                <a:moveTo>
                  <a:pt x="10806" y="0"/>
                </a:moveTo>
                <a:arcTo wR="10800" hR="10800" stAng="-5398115" swAng="5398115"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1199"/>
              </a:spcBef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857160" algn="ctr">
              <a:spcBef>
                <a:spcPts val="1199"/>
              </a:spcBef>
              <a:buClr>
                <a:srgbClr val="010000"/>
              </a:buClr>
              <a:buFont typeface="Arial"/>
              <a:buChar char="•"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3" marL="971640" algn="ctr">
              <a:buClr>
                <a:srgbClr val="010000"/>
              </a:buClr>
              <a:buFont typeface="Arial Narrow"/>
              <a:buChar char="–"/>
              <a:tabLst>
                <a:tab algn="l" pos="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010000"/>
              </a:solidFill>
              <a:latin typeface="Arial Narrow"/>
            </a:endParaRPr>
          </a:p>
          <a:p>
            <a:pPr lvl="4" marL="1317600" algn="ctr">
              <a:spcBef>
                <a:spcPts val="499"/>
              </a:spcBef>
              <a:buClr>
                <a:srgbClr val="cc0099"/>
              </a:buClr>
              <a:buFont typeface="Arial"/>
              <a:buChar char="»"/>
              <a:tabLst>
                <a:tab algn="l" pos="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  <a:tab algn="l" pos="4622760"/>
                <a:tab algn="l" pos="48006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  <a:p>
            <a:pPr lvl="5" marL="1317600">
              <a:spcBef>
                <a:spcPts val="499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  <a:p>
            <a:pPr lvl="6" marL="1317600">
              <a:spcBef>
                <a:spcPts val="499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9360" y="380880"/>
            <a:ext cx="769464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Requirements</a:t>
            </a:r>
            <a:endParaRPr b="1" lang="en-US" sz="48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267080" y="32004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Tracebility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Key ideas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verything has codes. FEA-1, . . 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rack how requirements trace to other artifacts, components, issues, change requests, tests, . . 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Advice: Use a real requirements management and change request tool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lternative: Use a simple tool such as MS Access to create a database of elements and their relationships. 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Resource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6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In all cases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6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1500" spc="-1" strike="noStrike">
                <a:solidFill>
                  <a:srgbClr val="010000"/>
                </a:solidFill>
                <a:latin typeface="Arial"/>
              </a:rPr>
              <a:t>Rational Unified Process Web Tool has some advice or templates.</a:t>
            </a:r>
            <a:endParaRPr b="1" lang="en-US" sz="15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6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i="1" lang="en-US" sz="1500" spc="-1" strike="noStrike">
                <a:solidFill>
                  <a:srgbClr val="010000"/>
                </a:solidFill>
                <a:latin typeface="Arial"/>
              </a:rPr>
              <a:t>The Unified Software Development Process</a:t>
            </a:r>
            <a:endParaRPr b="1" lang="en-US" sz="15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6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i="1" lang="en-US" sz="1500" spc="-1" strike="noStrike">
                <a:solidFill>
                  <a:srgbClr val="010000"/>
                </a:solidFill>
                <a:latin typeface="Arial"/>
              </a:rPr>
              <a:t>(fall 2000) Applying UML and Patterns in the Unified Process</a:t>
            </a:r>
            <a:endParaRPr b="1" lang="en-US" sz="15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6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Vision document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6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i="1" lang="en-US" sz="1400" spc="-1" strike="noStrike">
                <a:solidFill>
                  <a:srgbClr val="010000"/>
                </a:solidFill>
                <a:latin typeface="Arial"/>
              </a:rPr>
              <a:t>Practical Software Requirements (A)</a:t>
            </a:r>
            <a:endParaRPr b="1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6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i="1" lang="en-US" sz="1400" spc="-1" strike="noStrike">
                <a:solidFill>
                  <a:srgbClr val="010000"/>
                </a:solidFill>
                <a:latin typeface="Arial"/>
              </a:rPr>
              <a:t>Managing Software Requirements (B)</a:t>
            </a:r>
            <a:endParaRPr b="1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6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Use-case model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6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i="1" lang="en-US" sz="1400" spc="-1" strike="noStrike">
                <a:solidFill>
                  <a:srgbClr val="010000"/>
                </a:solidFill>
                <a:latin typeface="Arial"/>
              </a:rPr>
              <a:t>Applying UML and Patterns (C)</a:t>
            </a:r>
            <a:endParaRPr b="1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6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i="1" lang="en-US" sz="1400" spc="-1" strike="noStrike">
                <a:solidFill>
                  <a:srgbClr val="010000"/>
                </a:solidFill>
                <a:latin typeface="Arial"/>
              </a:rPr>
              <a:t>Applying Use Cases</a:t>
            </a:r>
            <a:endParaRPr b="1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6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Supplementary Specifications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6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A, B, C</a:t>
            </a:r>
            <a:endParaRPr b="1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6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i="1" lang="en-US" sz="1400" spc="-1" strike="noStrike">
                <a:solidFill>
                  <a:srgbClr val="010000"/>
                </a:solidFill>
                <a:latin typeface="Arial"/>
              </a:rPr>
              <a:t>Exploring Requirements: Quality Before Design</a:t>
            </a:r>
            <a:endParaRPr b="1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6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Stakeholder requests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6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A, B</a:t>
            </a:r>
            <a:endParaRPr b="1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6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UI prototype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6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i="1" lang="en-US" sz="1400" spc="-1" strike="noStrike">
                <a:solidFill>
                  <a:srgbClr val="010000"/>
                </a:solidFill>
                <a:latin typeface="Arial"/>
              </a:rPr>
              <a:t>Usability Engineering</a:t>
            </a:r>
            <a:endParaRPr b="1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6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i="1" lang="en-US" sz="1400" spc="-1" strike="noStrike">
                <a:solidFill>
                  <a:srgbClr val="010000"/>
                </a:solidFill>
                <a:latin typeface="Arial"/>
              </a:rPr>
              <a:t>Software for Use: A Practical Guide to the Models and Methods of Usage-Centered Design</a:t>
            </a:r>
            <a:r>
              <a:rPr b="1" i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6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Glossary</a:t>
            </a:r>
            <a:endParaRPr b="1" lang="en-US" sz="1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6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C</a:t>
            </a:r>
            <a:endParaRPr b="1" lang="en-US" sz="1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Sloppy requirements specification and management is a major risk in software development.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Therefore, worth the effort to do very well.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The UP defines several artifacts: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ision document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Use-case mod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Supplementary Specifications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8571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Includes requirement lists and attributes</a:t>
            </a:r>
            <a:endParaRPr b="1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Stakeholder requests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UI prototype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Use-case UI storyboard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Glossary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Advice: Create every one!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Scope of our Seminar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We could easily spend 5 days exploring these artifact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However, we will just focus on practicing use case modeling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he others are important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arefully learn the art of requirements specification and management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ee the </a:t>
            </a:r>
            <a:r>
              <a:rPr b="1" i="1" lang="en-US" sz="2600" spc="-1" strike="noStrike">
                <a:solidFill>
                  <a:srgbClr val="010000"/>
                </a:solidFill>
                <a:latin typeface="Arial"/>
              </a:rPr>
              <a:t>Resources</a:t>
            </a: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 section for good reference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Types of Requirement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FURPS+ model: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Functionality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Usability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Reliability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upportability 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e "+" in FURPS+ : 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design constraint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implementation requirement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interface requirement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physical requirement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Use Case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A use case tells a story of actors using a system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Rent Videos”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i="1" lang="en-US" sz="2400" spc="-1" strike="noStrike">
                <a:solidFill>
                  <a:srgbClr val="010000"/>
                </a:solidFill>
                <a:latin typeface="Arial"/>
              </a:rPr>
              <a:t>A use-case is a sequence of actions a system performs that yields an observable result of value to a particular actor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One artifact to express (especially) </a:t>
            </a:r>
            <a:r>
              <a:rPr b="1" i="1" lang="en-US" sz="2600" spc="-1" strike="noStrike">
                <a:solidFill>
                  <a:srgbClr val="010000"/>
                </a:solidFill>
                <a:latin typeface="Arial"/>
              </a:rPr>
              <a:t>functional</a:t>
            </a: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 requirement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Emphasizes thinking about the valuable objectives-oriented viewpoint of the user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Supplementary Specification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1. Functionality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Requirement list and attributes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2. Usability 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3. Reliability 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4. Performance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5. Supportability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6. Design Constraints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7. Online User Documentation and Help System Requirements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8. Purchased Components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9. Interfaces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10. Licensing Requirements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11. Legal, Copyright and Other Notices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12. Applicable Standards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Requirement Lists &amp; Attribute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For those not easily captured in use cases (which only emphasize functional requirements)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Fault tolerance, supportability, documentation, . . 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Includes requirement attribute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62120" y="2863800"/>
          <a:ext cx="7848360" cy="369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63800"/>
                    <a:ext cx="7848360" cy="36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Use Cases and Requirement List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Advice: Create in parallel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Enhance each other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Alternate ways to explore, think, talk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Use cases are a simple, familiar communication vehicle for non-analyst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Reduces barriers to communication—very important!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Use Cases and Requirement List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Use cases help us focus on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he business value of using a system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he priorities of development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If only create requirement lists, it is easier to lose sight of the important elements and their priority in terms of business value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Use cases are awkward to record non-functional requirement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he Supplementary Specification is suitable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7T15:39:37Z</dcterms:created>
  <dc:creator>Craig Larman</dc:creator>
  <dc:description/>
  <dc:language>en-US</dc:language>
  <cp:lastModifiedBy>Craig Larman</cp:lastModifiedBy>
  <dcterms:modified xsi:type="dcterms:W3CDTF">2000-04-02T14:10:48Z</dcterms:modified>
  <cp:revision>16</cp:revision>
  <dc:subject/>
  <dc:title>No Slide Title</dc:title>
</cp:coreProperties>
</file>