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2A07-AB5D-4B42-8FBB-8C21096FFE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611A-0E2B-411E-A404-E44E199700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3A6D-91D4-467D-BFE9-81721CD631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3F4B-3AC9-4468-9BE0-E10D543A63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5C5C-F688-4C53-9CBA-053EE19D8D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C2EDE-7851-490C-AB69-5EBFB86140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CE1D-A858-48D8-A9DB-6BE632FC52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6BAFC-FD9A-40B1-B39B-4DFCE3F573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1EF5-FA7A-4151-BFCD-1E13EF417B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D6D4E-3CDB-4009-B3AD-36FD841BA5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DB78-A1F7-4B3F-B936-5C8CCCD494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9EB4-2621-4FF3-8A39-653805FDED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09120" y="84456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857160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3" marL="971640">
              <a:spcBef>
                <a:spcPts val="1199"/>
              </a:spcBef>
              <a:buClr>
                <a:srgbClr val="010000"/>
              </a:buClr>
              <a:buFont typeface="Arial Narrow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4" marL="1317600">
              <a:spcBef>
                <a:spcPts val="1199"/>
              </a:spcBef>
              <a:buClr>
                <a:srgbClr val="cc00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5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6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E71B-6970-4CB9-9F7A-59B13D13780D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2895480"/>
            <a:ext cx="914580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1"/>
          </p:nvPr>
        </p:nvSpPr>
        <p:spPr>
          <a:xfrm>
            <a:off x="228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74D2-3604-42C0-AC3A-0D50BB577A25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9120" y="83988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algn="ctr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3" marL="971640" algn="ctr">
              <a:buClr>
                <a:srgbClr val="010000"/>
              </a:buClr>
              <a:buFont typeface="Arial Narrow"/>
              <a:buChar char="–"/>
              <a:tabLst>
                <a:tab algn="l" pos="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010000"/>
              </a:solidFill>
              <a:latin typeface="Arial Narrow"/>
            </a:endParaRPr>
          </a:p>
          <a:p>
            <a:pPr lvl="4" marL="1317600" algn="ctr">
              <a:spcBef>
                <a:spcPts val="499"/>
              </a:spcBef>
              <a:buClr>
                <a:srgbClr val="cc0099"/>
              </a:buClr>
              <a:buFont typeface="Arial"/>
              <a:buChar char="»"/>
              <a:tabLst>
                <a:tab algn="l" pos="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  <a:tab algn="l" pos="4622760"/>
                <a:tab algn="l" pos="48006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5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6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Software Economics: The Motivation for Object Technologies and Iterative Development 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7080" y="3200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989C-E748-475F-9CC5-C3C76549BA5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Iterative Development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mall steps, feedback and refinement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terative, incremental, time-boxed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KA evolutionary, spiral, . . 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320" y="2732040"/>
          <a:ext cx="90993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" y="2732040"/>
                    <a:ext cx="90993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 rot="16200000">
            <a:off x="1752480" y="3733200"/>
            <a:ext cx="990360" cy="4191120"/>
          </a:xfrm>
          <a:custGeom>
            <a:avLst/>
            <a:gdLst>
              <a:gd name="textAreaLeft" fmla="*/ 632880 w 990360"/>
              <a:gd name="textAreaRight" fmla="*/ 990720 w 990360"/>
              <a:gd name="textAreaTop" fmla="*/ 0 h 4191120"/>
              <a:gd name="textAreaBottom" fmla="*/ 419148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124"/>
                </a:lnTo>
                <a:cubicBezTo>
                  <a:pt x="10800" y="10124"/>
                  <a:pt x="5400" y="10124"/>
                  <a:pt x="0" y="10124"/>
                </a:cubicBezTo>
                <a:cubicBezTo>
                  <a:pt x="5400" y="10124"/>
                  <a:pt x="10800" y="10124"/>
                  <a:pt x="10800" y="1012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2 week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6400800" y="3733200"/>
            <a:ext cx="990360" cy="4191120"/>
          </a:xfrm>
          <a:custGeom>
            <a:avLst/>
            <a:gdLst>
              <a:gd name="textAreaLeft" fmla="*/ 632880 w 990360"/>
              <a:gd name="textAreaRight" fmla="*/ 990720 w 990360"/>
              <a:gd name="textAreaTop" fmla="*/ 0 h 4191120"/>
              <a:gd name="textAreaBottom" fmla="*/ 419148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124"/>
                </a:lnTo>
                <a:cubicBezTo>
                  <a:pt x="10800" y="10124"/>
                  <a:pt x="5400" y="10124"/>
                  <a:pt x="0" y="10124"/>
                </a:cubicBezTo>
                <a:cubicBezTo>
                  <a:pt x="5400" y="10124"/>
                  <a:pt x="10800" y="10124"/>
                  <a:pt x="10800" y="1012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2 week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1612800"/>
            <a:ext cx="8076960" cy="51688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3120" y="380880"/>
            <a:ext cx="73072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A Popular Iterative Process—The Unified Proces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arning: The phases are not iteration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he Cost of Change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143000" y="2068560"/>
          <a:ext cx="7010280" cy="46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068560"/>
                    <a:ext cx="7010280" cy="46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0" y="58672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Source: DP Budget, Vol. 7, No. 12, Dec. 1988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83808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 Narrow"/>
              </a:rPr>
              <a:t>Strategic rational system development plans are based on the </a:t>
            </a:r>
            <a:r>
              <a:rPr b="1" lang="en-US" sz="2400" spc="-1" strike="noStrike" u="sng">
                <a:solidFill>
                  <a:srgbClr val="010000"/>
                </a:solidFill>
                <a:uFillTx/>
                <a:latin typeface="Arial Narrow"/>
              </a:rPr>
              <a:t>complete</a:t>
            </a:r>
            <a:r>
              <a:rPr b="1" lang="en-US" sz="2400" spc="-1" strike="noStrike">
                <a:solidFill>
                  <a:srgbClr val="010000"/>
                </a:solidFill>
                <a:latin typeface="Arial Narrow"/>
              </a:rPr>
              <a:t> cost of a system, not solely on development cost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0880" y="91440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andomly selected U.S. government software projects: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14560" y="1355760"/>
          <a:ext cx="757224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55760"/>
                    <a:ext cx="757224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324480" y="5791320"/>
            <a:ext cx="2514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Source: US Government Accounting Office. Report FGMSD-80-4.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he Cost of Change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158320" y="58680"/>
            <a:ext cx="507960" cy="549000"/>
            <a:chOff x="8158320" y="58680"/>
            <a:chExt cx="507960" cy="549000"/>
          </a:xfrm>
        </p:grpSpPr>
        <p:sp>
          <p:nvSpPr>
            <p:cNvPr id="139" name=""/>
            <p:cNvSpPr/>
            <p:nvPr/>
          </p:nvSpPr>
          <p:spPr>
            <a:xfrm>
              <a:off x="8158320" y="58680"/>
              <a:ext cx="507960" cy="54900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18440" y="222120"/>
              <a:ext cx="378360" cy="290520"/>
            </a:xfrm>
            <a:custGeom>
              <a:avLst/>
              <a:gdLst/>
              <a:ahLst/>
              <a:rect l="l" t="t" r="r" b="b"/>
              <a:pathLst>
                <a:path w="249" h="177">
                  <a:moveTo>
                    <a:pt x="0" y="165"/>
                  </a:moveTo>
                  <a:lnTo>
                    <a:pt x="174" y="177"/>
                  </a:lnTo>
                  <a:lnTo>
                    <a:pt x="249" y="0"/>
                  </a:lnTo>
                  <a:lnTo>
                    <a:pt x="84" y="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09440" y="428400"/>
              <a:ext cx="259920" cy="49320"/>
            </a:xfrm>
            <a:custGeom>
              <a:avLst/>
              <a:gdLst/>
              <a:ahLst/>
              <a:rect l="l" t="t" r="r" b="b"/>
              <a:pathLst>
                <a:path w="171" h="30">
                  <a:moveTo>
                    <a:pt x="3" y="21"/>
                  </a:moveTo>
                  <a:lnTo>
                    <a:pt x="0" y="0"/>
                  </a:lnTo>
                  <a:lnTo>
                    <a:pt x="171" y="12"/>
                  </a:lnTo>
                  <a:lnTo>
                    <a:pt x="168" y="30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600" bIns="36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8205120" y="423720"/>
              <a:ext cx="23040" cy="792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05120" y="152280"/>
              <a:ext cx="378720" cy="290520"/>
            </a:xfrm>
            <a:custGeom>
              <a:avLst/>
              <a:gdLst/>
              <a:ahLst/>
              <a:rect l="l" t="t" r="r" b="b"/>
              <a:pathLst>
                <a:path w="249" h="177">
                  <a:moveTo>
                    <a:pt x="0" y="165"/>
                  </a:moveTo>
                  <a:lnTo>
                    <a:pt x="174" y="177"/>
                  </a:lnTo>
                  <a:lnTo>
                    <a:pt x="249" y="0"/>
                  </a:lnTo>
                  <a:lnTo>
                    <a:pt x="84" y="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0680"/>
            <a:ext cx="9144000" cy="471600"/>
          </a:xfrm>
          <a:prstGeom prst="rect">
            <a:avLst/>
          </a:prstGeom>
          <a:noFill/>
          <a:ln w="0">
            <a:noFill/>
          </a:ln>
        </p:spPr>
        <p:txBody>
          <a:bodyPr lIns="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he Cost of Change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n AT&amp;T study indicated that, on average,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2209680"/>
            <a:ext cx="8153280" cy="3200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Business Rules change at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rate of 8% per month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Why Object Technology?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Prime software problems are 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owering the cost and time of change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ncreasing the ease of adaptability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act: Object technology is especially good at 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Reducing the time to adapt an existing system (quicker reaction to changes in the business environment)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Reducing the effort, complexity, and cost of change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23880" y="4800600"/>
            <a:ext cx="586764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84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Times New Roman"/>
              </a:rPr>
              <a:t>Flexibili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Why Object Technology?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What about reuse?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i="1" lang="en-US" sz="2200" spc="-1" strike="noStrike">
                <a:solidFill>
                  <a:srgbClr val="010000"/>
                </a:solidFill>
                <a:latin typeface="Arial"/>
              </a:rPr>
              <a:t>The Corporate Use of OT</a:t>
            </a: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, Dec 1997, Cutter Group. Prioritized reasons for adopting OT: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1. Ability to take advantage of new operating systems and tools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2. Application maintenance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3. Cost savings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4. Development of revenue-producing applications 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5. Encapsulation of existing applications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6. Improved interfaces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7. Increased productivity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8. Participation in "the future of computing"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9. Proof of ability to do OO development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10. Quick development of strategic applications 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11. Software reuse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5943600"/>
            <a:ext cx="4343400" cy="533520"/>
          </a:xfrm>
          <a:prstGeom prst="leftArrow">
            <a:avLst>
              <a:gd name="adj1" fmla="val 50000"/>
              <a:gd name="adj2" fmla="val 203526"/>
            </a:avLst>
          </a:prstGeom>
          <a:solidFill>
            <a:srgbClr val="ffff00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Narrow"/>
              </a:rPr>
              <a:t>Note low priority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2438280"/>
            <a:ext cx="4343400" cy="533520"/>
          </a:xfrm>
          <a:prstGeom prst="leftArrow">
            <a:avLst>
              <a:gd name="adj1" fmla="val 50000"/>
              <a:gd name="adj2" fmla="val 203526"/>
            </a:avLst>
          </a:prstGeom>
          <a:solidFill>
            <a:srgbClr val="ffff00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Narrow"/>
              </a:rPr>
              <a:t>Note high priority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Why Object Technology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hat about reuse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Reuse is a good and worthy goal, but you will discover that the real power and advantage of OT is its capacity to support easily adaptable system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Unfortunately, reuse is hard, and expert OT organizations see little of it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 issues are mor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rganizational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than technical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Reuse at What Level?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05560" y="6002280"/>
            <a:ext cx="1716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39760" y="6002280"/>
            <a:ext cx="1716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1960" y="6002280"/>
            <a:ext cx="54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2209680"/>
            <a:ext cx="5416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52280" y="1144440"/>
          <a:ext cx="9828000" cy="59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144440"/>
                    <a:ext cx="982800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105520" y="990720"/>
            <a:ext cx="3962160" cy="1066680"/>
          </a:xfrm>
          <a:prstGeom prst="cloudCallout">
            <a:avLst>
              <a:gd name="adj1" fmla="val 16347"/>
              <a:gd name="adj2" fmla="val 86606"/>
            </a:avLst>
          </a:prstGeom>
          <a:solidFill>
            <a:srgbClr val="010000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fter 70% change, it’s cheaper to rewrite a componen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6095880"/>
            <a:ext cx="2482920" cy="304920"/>
          </a:xfrm>
          <a:prstGeom prst="rect">
            <a:avLst/>
          </a:prstGeom>
          <a:noFill/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Source:W. Pree, OOPSLA ‘95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140680" y="71280"/>
            <a:ext cx="549360" cy="549000"/>
            <a:chOff x="8140680" y="71280"/>
            <a:chExt cx="549360" cy="549000"/>
          </a:xfrm>
        </p:grpSpPr>
        <p:sp>
          <p:nvSpPr>
            <p:cNvPr id="167" name=""/>
            <p:cNvSpPr/>
            <p:nvPr/>
          </p:nvSpPr>
          <p:spPr>
            <a:xfrm>
              <a:off x="8140680" y="71280"/>
              <a:ext cx="549360" cy="54900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05840" y="234720"/>
              <a:ext cx="409320" cy="290520"/>
            </a:xfrm>
            <a:custGeom>
              <a:avLst/>
              <a:gdLst/>
              <a:ahLst/>
              <a:rect l="l" t="t" r="r" b="b"/>
              <a:pathLst>
                <a:path w="249" h="177">
                  <a:moveTo>
                    <a:pt x="0" y="165"/>
                  </a:moveTo>
                  <a:lnTo>
                    <a:pt x="174" y="177"/>
                  </a:lnTo>
                  <a:lnTo>
                    <a:pt x="249" y="0"/>
                  </a:lnTo>
                  <a:lnTo>
                    <a:pt x="84" y="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96120" y="441000"/>
              <a:ext cx="281160" cy="49320"/>
            </a:xfrm>
            <a:custGeom>
              <a:avLst/>
              <a:gdLst/>
              <a:ahLst/>
              <a:rect l="l" t="t" r="r" b="b"/>
              <a:pathLst>
                <a:path w="171" h="30">
                  <a:moveTo>
                    <a:pt x="3" y="21"/>
                  </a:moveTo>
                  <a:lnTo>
                    <a:pt x="0" y="0"/>
                  </a:lnTo>
                  <a:lnTo>
                    <a:pt x="171" y="12"/>
                  </a:lnTo>
                  <a:lnTo>
                    <a:pt x="168" y="30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600" bIns="36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8191440" y="436320"/>
              <a:ext cx="25200" cy="792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91440" y="164880"/>
              <a:ext cx="409680" cy="290520"/>
            </a:xfrm>
            <a:custGeom>
              <a:avLst/>
              <a:gdLst/>
              <a:ahLst/>
              <a:rect l="l" t="t" r="r" b="b"/>
              <a:pathLst>
                <a:path w="249" h="177">
                  <a:moveTo>
                    <a:pt x="0" y="165"/>
                  </a:moveTo>
                  <a:lnTo>
                    <a:pt x="174" y="177"/>
                  </a:lnTo>
                  <a:lnTo>
                    <a:pt x="249" y="0"/>
                  </a:lnTo>
                  <a:lnTo>
                    <a:pt x="84" y="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3120" y="380880"/>
            <a:ext cx="73072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Object Reuse Versus Cohesive Framework Reuse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pic>
        <p:nvPicPr>
          <p:cNvPr id="174" name="birdseye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6172200" cy="4011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990720" y="1219320"/>
            <a:ext cx="70866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Winchester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ystery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Software—A Risky Busines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Business as usual is not working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71600"/>
          <a:ext cx="609768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71600"/>
                    <a:ext cx="60976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0" y="1963800"/>
          <a:ext cx="5470560" cy="405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63800"/>
                    <a:ext cx="547056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33520" y="594360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Arial"/>
              </a:rPr>
              <a:t>Source: Standish Report, 199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1647720"/>
            <a:ext cx="342900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l based on waterfall lifecycle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53% cost almost 200% of original estimate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timated $81 billion spent on failed U.S. projects in 1995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Reuse at What Level?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Research shows no relationship between increased reuse and collecting a library of reusable components from prior projects.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TIMES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 u="sng">
                <a:solidFill>
                  <a:srgbClr val="010000"/>
                </a:solidFill>
                <a:uFillTx/>
                <a:latin typeface="Times New Roman"/>
              </a:rPr>
              <a:t>Communications of the ACM</a:t>
            </a:r>
            <a:r>
              <a:rPr b="1" lang="en-US" sz="2000" spc="-1" strike="noStrike">
                <a:solidFill>
                  <a:srgbClr val="010000"/>
                </a:solidFill>
                <a:latin typeface="Times New Roman"/>
              </a:rPr>
              <a:t>, pp 75-87 June, 1995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http://ite.gmu.edu/~nnada/pap.htm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Reuse is not usually achieved or worthwhile at the object-level.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Focus on: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e organizational factors to support reuse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8571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http://ite.gmu.edu/~nnada/pap.html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lvl="2" marL="8571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Software Reuse (Griss)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A culture of </a:t>
            </a:r>
            <a:r>
              <a:rPr b="1" i="1" lang="en-US" sz="2000" spc="-1" strike="noStrike">
                <a:solidFill>
                  <a:srgbClr val="010000"/>
                </a:solidFill>
                <a:latin typeface="Arial"/>
              </a:rPr>
              <a:t>framework</a:t>
            </a: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 creation and use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Reuse of architecture, analysis and design patterns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05560" y="6002280"/>
            <a:ext cx="1716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39760" y="6002280"/>
            <a:ext cx="1716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1960" y="6002280"/>
            <a:ext cx="54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2209680"/>
            <a:ext cx="5416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Reuse at the Framework Level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Where do expert OT organizations see some reuse?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With </a:t>
            </a:r>
            <a:r>
              <a:rPr b="1" i="1" lang="en-US" sz="2000" spc="-1" strike="noStrike">
                <a:solidFill>
                  <a:srgbClr val="010000"/>
                </a:solidFill>
                <a:latin typeface="Arial"/>
              </a:rPr>
              <a:t>frameworks</a:t>
            </a: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However, effective reusable framework creation requires: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ry skilled object designers/programmers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2895480"/>
            <a:ext cx="82296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Go Forth and Make Framework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Why Object Technology?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nother non-technical, but non-trivial reason is. . 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bility to attract and retain talented software engineer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OT is the undisputed “hot technology” for the foreseeable future, and it is not easy to retain talent unless an IT organization is using it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Why Object Technology?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Organizations usually start the adoption thinking OT will lead to shorter development time, more reuse, better productivity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Unfortunately, that does not usually happen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However, they do discover something useful and powerful. . 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t takes complexity to manage complexity.”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R. Martin, Editor of C++ Report, co-author of </a:t>
            </a:r>
            <a:r>
              <a:rPr b="1" i="1" lang="en-US" sz="2400" spc="-1" strike="noStrike">
                <a:solidFill>
                  <a:srgbClr val="010000"/>
                </a:solidFill>
                <a:latin typeface="Arial"/>
              </a:rPr>
              <a:t>Object-Oriented Analysis and Design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, with Grady Booch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Why Object Technology?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Elegantly tackle complexity &amp; create easy adaptability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. . . 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 startAt="9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Productivity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 startAt="9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Reuse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4343400"/>
            <a:ext cx="502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 Narrow"/>
              </a:rPr>
              <a:t>The productivity is realized in the maintenance or modification phases of a system—often with profoundly faster changes, if the system was designed skillfully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914400"/>
            <a:ext cx="746748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010000"/>
                </a:solidFill>
                <a:latin typeface="Arial Narrow"/>
              </a:rPr>
              <a:t>The value of OT (OOA&amp;D, OOP) primarily lies in its ability to handle complex problems and create comprehensible, manageable systems that can scale up to increasing complexity, and that are easily adaptable—</a:t>
            </a:r>
            <a:r>
              <a:rPr b="1" i="1" lang="en-US" sz="2400" spc="-1" strike="noStrike">
                <a:solidFill>
                  <a:srgbClr val="01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10000"/>
                </a:solidFill>
                <a:latin typeface="Arial Narrow"/>
              </a:rPr>
              <a:t>designed skillfully.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74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1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1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1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1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1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10000"/>
                </a:solidFill>
                <a:latin typeface="Arial Narrow"/>
              </a:rPr>
              <a:t>Craig Larma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Faulty Assumption 1: 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Requirements can be Fairly Accurate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pplied Software Measurement, Capers Jones, 1997. Based on 6,700 system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1676520"/>
          <a:ext cx="7772400" cy="519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240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Faulty Assumption 2: 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Requirements are Stable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 market changes—constantly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 technology change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 goals of the stakeholders change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Faulty Assumption 3: The Design can be Done, before Programming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Ask a programmer.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Requirements are incomplete and changing.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Too many variables, unknowns, and novelties.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A complete specification must be as detailed as code itself.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Software is very “hard”.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Discover Magazine, 1999: Software characterized as the most complex “machine” humankind builds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Effort—The Danger of Large Step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280" y="762120"/>
          <a:ext cx="8839440" cy="59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83944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553080" y="517680"/>
            <a:ext cx="259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60093"/>
                </a:solidFill>
                <a:latin typeface="Arial"/>
              </a:rPr>
              <a:t>Source: Applied Software Measurement, Capers Jones, 1997. Based on 6,700 systems.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Productivity—The Danger of Large Step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920880"/>
          <a:ext cx="853452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20880"/>
                    <a:ext cx="853452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172200" y="822240"/>
            <a:ext cx="29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60093"/>
                </a:solidFill>
                <a:latin typeface="Arial"/>
              </a:rPr>
              <a:t>Source: Measures For Excellence, Putnam, 1992. Based on 1,600 systems.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he Voice of Experience and Research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In 1994, the DOD dropped their waterfall 2167A specification, because of abysmal failure. 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ey now encourage an iterative process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Virtual every publication on software development process written in the last 5 years has advocated replacing a waterfall with an iterative lifecycle.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i="1" lang="en-US" sz="2000" spc="-1" strike="noStrike">
                <a:solidFill>
                  <a:srgbClr val="010000"/>
                </a:solidFill>
                <a:latin typeface="Arial"/>
              </a:rPr>
              <a:t>The Unified Software Development Process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i="1" lang="en-US" sz="2000" spc="-1" strike="noStrike">
                <a:solidFill>
                  <a:srgbClr val="010000"/>
                </a:solidFill>
                <a:latin typeface="Arial"/>
              </a:rPr>
              <a:t>Applying UML and Patterns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i="1" lang="en-US" sz="2000" spc="-1" strike="noStrike">
                <a:solidFill>
                  <a:srgbClr val="010000"/>
                </a:solidFill>
                <a:latin typeface="Arial"/>
              </a:rPr>
              <a:t>Software Project Management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i="1" lang="en-US" sz="2000" spc="-1" strike="noStrike">
                <a:solidFill>
                  <a:srgbClr val="010000"/>
                </a:solidFill>
                <a:latin typeface="Arial"/>
              </a:rPr>
              <a:t>Succeeding with Objects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i="1" lang="en-US" sz="2000" spc="-1" strike="noStrike">
                <a:solidFill>
                  <a:srgbClr val="010000"/>
                </a:solidFill>
                <a:latin typeface="Arial"/>
              </a:rPr>
              <a:t>Object Solutions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i="1" lang="en-US" sz="2000" spc="-1" strike="noStrike">
                <a:solidFill>
                  <a:srgbClr val="010000"/>
                </a:solidFill>
                <a:latin typeface="Arial"/>
              </a:rPr>
              <a:t>Surviving Object-oriented Projects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100000"/>
              </a:lnSpc>
              <a:spcBef>
                <a:spcPts val="3300"/>
              </a:spcBef>
              <a:buClr>
                <a:srgbClr val="fd6d01"/>
              </a:buClr>
              <a:buSzPct val="5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999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d60093"/>
                </a:solidFill>
                <a:latin typeface="Arial Narrow"/>
              </a:rPr>
              <a:t>Therefore...</a:t>
            </a:r>
            <a:endParaRPr b="0" lang="en-US" sz="8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9T21:37:14Z</dcterms:created>
  <dc:creator>Ken Howard</dc:creator>
  <dc:description/>
  <dc:language>en-US</dc:language>
  <cp:lastModifiedBy>Craig Larman</cp:lastModifiedBy>
  <cp:lastPrinted>1999-04-13T16:19:35Z</cp:lastPrinted>
  <dcterms:modified xsi:type="dcterms:W3CDTF">2000-08-28T22:56:45Z</dcterms:modified>
  <cp:revision>255</cp:revision>
  <dc:subject/>
  <dc:title>Moving from COBOL to Java</dc:title>
</cp:coreProperties>
</file>