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78D1-121C-4940-ABD6-EAED49772B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1B551-D21B-4DF2-A289-614E5015C2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D50F-853E-410D-89F4-4C4B31EFE0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3E23-34B0-4791-83FE-B5CE55804C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2F62-BAC5-4811-B8D8-D3ADB561AC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16FB-D26D-4C29-85D0-AFE6DCE88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56E5-D324-484D-99D6-B2676CDF6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4810-1C91-4C8E-A159-D6431911DE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B15A-E1AE-4719-97CF-7F0D1C2DAC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66C0-9A69-49D6-B936-1898631F89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3DF0-4931-4AE1-B8A2-B7237FFBF8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FA75-7C34-4588-B1E5-C2EE8B37B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B844-5973-4D6B-A7D7-A40A90C4838F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65BC-F848-484F-9DF6-F1FA34343382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9360" y="380880"/>
            <a:ext cx="76946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Business Modeling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nterprise-level business-wide modeling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Not application-specific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blishes a context for a system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ptional. Difficult. Expensive. Seldom ROI-justifiabl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e will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explore this UP workflow in detail. 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bjective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o understand the structure and dynamics of the organization.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o ensure that stakeholders have a common understanding of the organization.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o derive requirements on systems to support the organization.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Business Model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Business Use-Case Mod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Business use-cases describe the business processes with respect to external actors such as customers and supplier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Order Goods or Service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Business Object Mod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escribes the realization of business use cases in terms of objects—business workers and entitie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Buyer, PurchaseOrder, . . 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n abstraction of how business workers and business entities need to be related and how they need to collaborate in order to perform the business.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4-02T14:10:18Z</dcterms:modified>
  <cp:revision>8</cp:revision>
  <dc:subject/>
  <dc:title>No Slide Title</dc:title>
</cp:coreProperties>
</file>