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61084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3819960"/>
            <a:ext cx="861084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3040" y="91440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381996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3040" y="381996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1840" y="91440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03160" y="91440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381996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1840" y="381996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03160" y="381996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C1AFC-0B88-4CBE-82F8-766BEDA51E0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177840"/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C7E81-E670-4D98-83EB-0EA280116BB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973C9-ABAA-49E5-B6C7-18EBC9EF37E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2019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3040" y="914400"/>
            <a:ext cx="42019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40D43-33FC-4ED4-AAF0-62F1BB1BE74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43428-62CB-4E57-A550-3DE0F111919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0" y="-76320"/>
            <a:ext cx="91440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D7F9D-83F9-41DD-9739-91FE14B09F9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3040" y="914400"/>
            <a:ext cx="42019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80520" y="381996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1012B-2B03-4EB1-A995-F7B82E9FB87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177840"/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2019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3040" y="91440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3040" y="381996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147D7-A0EB-448D-AD28-FFC67F00CCD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3040" y="91440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80520" y="3819960"/>
            <a:ext cx="861084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07ADA-0D71-4DD8-8680-88B6A6CE806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61084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80520" y="3819960"/>
            <a:ext cx="861084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8C193-D394-43FE-8A3A-46FA155093A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3040" y="91440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381996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3040" y="381996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6C07F-52A7-496E-BDF3-A621CBECE0D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91840" y="91440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03160" y="91440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80520" y="381996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91840" y="381996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03160" y="381996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CB2E3-663E-4995-A5E0-C1B2F68706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2019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3040" y="914400"/>
            <a:ext cx="42019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-76320"/>
            <a:ext cx="91440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3040" y="914400"/>
            <a:ext cx="42019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381996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2019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3040" y="91440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3040" y="381996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3040" y="91440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3819960"/>
            <a:ext cx="861084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609120" y="844560"/>
            <a:ext cx="1218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6" y="0"/>
                </a:moveTo>
                <a:arcTo wR="10800" hR="10800" stAng="-5398115" swAng="5398115"/>
                <a:lnTo>
                  <a:pt x="10800" y="10800"/>
                </a:lnTo>
                <a:close/>
              </a:path>
              <a:path fill="none" w="21600" h="21600">
                <a:moveTo>
                  <a:pt x="10806" y="0"/>
                </a:moveTo>
                <a:arcTo wR="10800" hR="10800" stAng="-5398115" swAng="5398115"/>
              </a:path>
            </a:pathLst>
          </a:custGeom>
          <a:gradFill rotWithShape="0">
            <a:gsLst>
              <a:gs pos="0">
                <a:srgbClr val="ff99cc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857160">
              <a:spcBef>
                <a:spcPts val="1199"/>
              </a:spcBef>
              <a:buClr>
                <a:srgbClr val="010000"/>
              </a:buClr>
              <a:buFont typeface="Arial"/>
              <a:buChar char="•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3" marL="971640">
              <a:spcBef>
                <a:spcPts val="1199"/>
              </a:spcBef>
              <a:buClr>
                <a:srgbClr val="010000"/>
              </a:buClr>
              <a:buFont typeface="Arial Narrow"/>
              <a:buChar char="–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4" marL="1317600">
              <a:spcBef>
                <a:spcPts val="1199"/>
              </a:spcBef>
              <a:buClr>
                <a:srgbClr val="cc0099"/>
              </a:buClr>
              <a:buFont typeface="Arial"/>
              <a:buChar char="»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5" marL="1317600">
              <a:spcBef>
                <a:spcPts val="1199"/>
              </a:spcBef>
              <a:buClr>
                <a:srgbClr val="009999"/>
              </a:buClr>
              <a:buFont typeface="Arial"/>
              <a:buChar char="»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6" marL="1317600">
              <a:spcBef>
                <a:spcPts val="1199"/>
              </a:spcBef>
              <a:buClr>
                <a:srgbClr val="009999"/>
              </a:buClr>
              <a:buFont typeface="Arial"/>
              <a:buChar char="»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248520" y="65530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3366"/>
                </a:solidFill>
                <a:latin typeface="Arial"/>
              </a:rPr>
              <a:t>Copyright © Craig Larman. 2000   All Rights Reserved</a:t>
            </a:r>
            <a:endParaRPr b="0" lang="en-US" sz="9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3366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114800" y="6400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B3C2F-5123-4360-93FB-F0ED82D43053}" type="slidenum">
              <a:rPr b="0" lang="en-US" sz="1000" spc="-1" strike="noStrike">
                <a:solidFill>
                  <a:srgbClr val="9933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440" y="2895480"/>
            <a:ext cx="9145800" cy="0"/>
          </a:xfrm>
          <a:prstGeom prst="line">
            <a:avLst/>
          </a:prstGeom>
          <a:ln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99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1"/>
          </p:nvPr>
        </p:nvSpPr>
        <p:spPr>
          <a:xfrm>
            <a:off x="2282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933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3366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4114800" y="64008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9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4AEED-40AF-49F9-BF90-EC85806AA8C2}" type="slidenum">
              <a:rPr b="0" lang="en-US" sz="1000" spc="-1" strike="noStrike">
                <a:solidFill>
                  <a:srgbClr val="9933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65530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3366"/>
                </a:solidFill>
                <a:latin typeface="Arial"/>
              </a:rPr>
              <a:t>Copyright © Craig Larman. 2000   All Rights Reserved</a:t>
            </a:r>
            <a:endParaRPr b="0" lang="en-US" sz="9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-609120" y="839880"/>
            <a:ext cx="1218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6" y="0"/>
                </a:moveTo>
                <a:arcTo wR="10800" hR="10800" stAng="-5398115" swAng="5398115"/>
                <a:lnTo>
                  <a:pt x="10800" y="10800"/>
                </a:lnTo>
                <a:close/>
              </a:path>
              <a:path fill="none" w="21600" h="21600">
                <a:moveTo>
                  <a:pt x="10806" y="0"/>
                </a:moveTo>
                <a:arcTo wR="10800" hR="10800" stAng="-5398115" swAng="5398115"/>
              </a:path>
            </a:pathLst>
          </a:custGeom>
          <a:gradFill rotWithShape="0">
            <a:gsLst>
              <a:gs pos="0">
                <a:srgbClr val="ff99cc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177840"/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1199"/>
              </a:spcBef>
              <a:tabLst>
                <a:tab algn="l" pos="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857160" algn="ctr">
              <a:spcBef>
                <a:spcPts val="1199"/>
              </a:spcBef>
              <a:buClr>
                <a:srgbClr val="010000"/>
              </a:buClr>
              <a:buFont typeface="Arial"/>
              <a:buChar char="•"/>
              <a:tabLst>
                <a:tab algn="l" pos="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10000"/>
              </a:solidFill>
              <a:latin typeface="Arial"/>
            </a:endParaRPr>
          </a:p>
          <a:p>
            <a:pPr lvl="3" marL="971640" algn="ctr">
              <a:buClr>
                <a:srgbClr val="010000"/>
              </a:buClr>
              <a:buFont typeface="Arial Narrow"/>
              <a:buChar char="–"/>
              <a:tabLst>
                <a:tab algn="l" pos="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  <a:tab algn="l" pos="444492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 Narrow"/>
              </a:rPr>
              <a:t>Fourth Outline Level</a:t>
            </a:r>
            <a:endParaRPr b="1" lang="en-US" sz="2000" spc="-1" strike="noStrike">
              <a:solidFill>
                <a:srgbClr val="010000"/>
              </a:solidFill>
              <a:latin typeface="Arial Narrow"/>
            </a:endParaRPr>
          </a:p>
          <a:p>
            <a:pPr lvl="4" marL="1317600" algn="ctr">
              <a:spcBef>
                <a:spcPts val="499"/>
              </a:spcBef>
              <a:buClr>
                <a:srgbClr val="cc0099"/>
              </a:buClr>
              <a:buFont typeface="Arial"/>
              <a:buChar char="»"/>
              <a:tabLst>
                <a:tab algn="l" pos="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  <a:tab algn="l" pos="4444920"/>
                <a:tab algn="l" pos="4622760"/>
                <a:tab algn="l" pos="48006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cc0099"/>
              </a:solidFill>
              <a:latin typeface="Arial"/>
            </a:endParaRPr>
          </a:p>
          <a:p>
            <a:pPr lvl="5" marL="1317600">
              <a:spcBef>
                <a:spcPts val="499"/>
              </a:spcBef>
              <a:buClr>
                <a:srgbClr val="00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cc0099"/>
              </a:solidFill>
              <a:latin typeface="Arial"/>
            </a:endParaRPr>
          </a:p>
          <a:p>
            <a:pPr lvl="6" marL="1317600">
              <a:spcBef>
                <a:spcPts val="499"/>
              </a:spcBef>
              <a:buClr>
                <a:srgbClr val="00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cc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49360" y="380880"/>
            <a:ext cx="769464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99"/>
                </a:solidFill>
                <a:latin typeface="Arial"/>
              </a:rPr>
              <a:t>Object-Oriented Analysis and Design</a:t>
            </a:r>
            <a:br>
              <a:rPr sz="4800"/>
            </a:br>
            <a:r>
              <a:rPr b="1" i="1" lang="en-US" sz="3200" spc="-1" strike="noStrike">
                <a:solidFill>
                  <a:srgbClr val="cc0099"/>
                </a:solidFill>
                <a:latin typeface="Arial"/>
              </a:rPr>
              <a:t>with Patterns, Process, and the UML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cc0099"/>
                </a:solidFill>
                <a:latin typeface="Arial"/>
              </a:rPr>
              <a:t>Introduction</a:t>
            </a:r>
            <a:endParaRPr b="1" lang="en-US" sz="48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267080" y="320040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177840"/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Introduction</a:t>
            </a: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Welcome!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Introductions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Seminar Leader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Participants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Prerequisites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Logistics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Overview and Objectives</a:t>
            </a: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Learn how to “think in objects”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Requirements and analysis of the problem domain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Design of a solution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Assign responsibilities to objects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Design patterns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Architectural issues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Java and/or C++ issues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Unified Process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UML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Practice!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Priority of Learning Objectives</a:t>
            </a: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To guide you in prioritizing. . .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1. Assigning responsibilities to objects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The GRASP patterns are the key learning aid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After that. . . ?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Our Learning Strategy</a:t>
            </a: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76320" y="1343160"/>
          <a:ext cx="8076960" cy="45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343160"/>
                    <a:ext cx="8076960" cy="45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Learning Aids</a:t>
            </a: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This presentation is intentionally terse.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The details for learning are in: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It is valuable to </a:t>
            </a:r>
            <a:br>
              <a:rPr sz="2600"/>
            </a:b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carefully study it.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791320" y="2171880"/>
            <a:ext cx="3031920" cy="3619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7T15:39:37Z</dcterms:created>
  <dc:creator>Craig Larman</dc:creator>
  <dc:description/>
  <dc:language>en-US</dc:language>
  <cp:lastModifiedBy>Craig Larman</cp:lastModifiedBy>
  <dcterms:modified xsi:type="dcterms:W3CDTF">2000-04-02T14:07:34Z</dcterms:modified>
  <cp:revision>10</cp:revision>
  <dc:subject/>
  <dc:title>No Slide Title</dc:title>
</cp:coreProperties>
</file>