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92557-839C-4B74-8013-695C9C8956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F675B-9D8A-46C6-96BA-554CB35380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BC70C-F90D-4123-A8D3-691598CCAF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0941F-CAED-4FD2-B4AF-D7725987F9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63DFD-205E-4430-8935-DE4AFB9A38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4EE3D-F9E5-4708-AF99-2888B89BCF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9D47C-CA14-487E-9CF9-7641743360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DF5FD-02A5-4153-85A9-0846DB34E7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4B51-60B2-4946-A5A3-E104966E38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15795-2E85-4A4E-B086-3C434CB2D6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1A5ED-997C-4825-A9DB-DD7DEED019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410D1-CE17-4D77-A717-472C543AAF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609120" y="84456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857160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3" marL="971640">
              <a:spcBef>
                <a:spcPts val="1199"/>
              </a:spcBef>
              <a:buClr>
                <a:srgbClr val="010000"/>
              </a:buClr>
              <a:buFont typeface="Arial Narrow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4" marL="1317600">
              <a:spcBef>
                <a:spcPts val="1199"/>
              </a:spcBef>
              <a:buClr>
                <a:srgbClr val="cc00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5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6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64B7-62B6-424D-9880-26513DFF91D2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0" y="2895480"/>
            <a:ext cx="914580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1"/>
          </p:nvPr>
        </p:nvSpPr>
        <p:spPr>
          <a:xfrm>
            <a:off x="228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FD2F-B1C0-466E-8F7C-C03BC2B105C4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9120" y="83988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algn="ctr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3" marL="971640" algn="ctr">
              <a:buClr>
                <a:srgbClr val="010000"/>
              </a:buClr>
              <a:buFont typeface="Arial Narrow"/>
              <a:buChar char="–"/>
              <a:tabLst>
                <a:tab algn="l" pos="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010000"/>
              </a:solidFill>
              <a:latin typeface="Arial Narrow"/>
            </a:endParaRPr>
          </a:p>
          <a:p>
            <a:pPr lvl="4" marL="1317600" algn="ctr">
              <a:spcBef>
                <a:spcPts val="499"/>
              </a:spcBef>
              <a:buClr>
                <a:srgbClr val="cc0099"/>
              </a:buClr>
              <a:buFont typeface="Arial"/>
              <a:buChar char="»"/>
              <a:tabLst>
                <a:tab algn="l" pos="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  <a:tab algn="l" pos="4622760"/>
                <a:tab algn="l" pos="48006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5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6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9360" y="380880"/>
            <a:ext cx="769464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Analysis, Design, and Process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67080" y="32004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Analysis and Design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14520" y="903240"/>
          <a:ext cx="8375400" cy="58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903240"/>
                    <a:ext cx="8375400" cy="58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Terminology War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erms not fixed, but used along a continuum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2362320"/>
            <a:ext cx="7391160" cy="609480"/>
          </a:xfrm>
          <a:prstGeom prst="leftRightArrow">
            <a:avLst>
              <a:gd name="adj1" fmla="val 50000"/>
              <a:gd name="adj2" fmla="val 241417"/>
            </a:avLst>
          </a:prstGeom>
          <a:solidFill>
            <a:srgbClr val="ccecff"/>
          </a:solidFill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31240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More analysis oriented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12408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More design oriented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Object-oriented Analysis and Design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Object-oriented analysis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What are the domain objects?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indent="0"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Described in a domain object mod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857160" indent="0"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Object-oriented design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Describing the software solution in terms of collaborating objects, with responsibilitie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The Unified Modeling Language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 UML is standard diagramming language to visualize the results of analysis and design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Notation (the UML) is a simple, relatively trivial thing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Much more important: Skill in designing with object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earning UML notation does not help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 UML is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no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 process or methodology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object-oriented analysis and design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guidelines for design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pic>
        <p:nvPicPr>
          <p:cNvPr id="100" name="uml" descr=""/>
          <p:cNvPicPr/>
          <p:nvPr/>
        </p:nvPicPr>
        <p:blipFill>
          <a:blip r:embed="rId1"/>
          <a:stretch/>
        </p:blipFill>
        <p:spPr>
          <a:xfrm>
            <a:off x="7238880" y="4267080"/>
            <a:ext cx="115884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Software Development Processe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Process is useful, but only a 2nd-order effect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Number 1: Good people, well educated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Good people + good process = lower risk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Unified Process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 has emerged as a de facto industry standard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15:39:37Z</dcterms:created>
  <dc:creator>Craig Larman</dc:creator>
  <dc:description/>
  <dc:language>en-US</dc:language>
  <cp:lastModifiedBy>Craig Larman</cp:lastModifiedBy>
  <dcterms:modified xsi:type="dcterms:W3CDTF">2000-04-02T14:09:22Z</dcterms:modified>
  <cp:revision>8</cp:revision>
  <dc:subject/>
  <dc:title>No Slide Title</dc:title>
</cp:coreProperties>
</file>