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B5C2C-88D8-4006-809D-46B119B955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E30D1-2BFC-49C7-8F99-2C1669E069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A56BC-4304-4793-8708-41F9E91BCC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20142-5A56-4680-97AA-0D2A7836FA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3B346-3354-448D-A189-48F782B17F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4D34-EC5F-45DD-81C6-ADB8E99E13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C5E1-3965-42E5-A302-6DF11648FA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6138D-3DEB-4085-928D-FCC8C498AB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60F2-41D4-4E0E-A186-B58055180D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516AF-6F45-4716-84D2-17BEC9D0A9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116DC-6657-4001-AE97-21D966F404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184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3160" y="9144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184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3160" y="38199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3C4D6-7C2F-4C69-BFEC-833B1384D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320"/>
            <a:ext cx="9144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381996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914400"/>
            <a:ext cx="42019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819960"/>
            <a:ext cx="861084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09120" y="84456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857160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3" marL="971640">
              <a:spcBef>
                <a:spcPts val="1199"/>
              </a:spcBef>
              <a:buClr>
                <a:srgbClr val="010000"/>
              </a:buClr>
              <a:buFont typeface="Arial Narrow"/>
              <a:buChar char="–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4" marL="1317600">
              <a:spcBef>
                <a:spcPts val="1199"/>
              </a:spcBef>
              <a:buClr>
                <a:srgbClr val="cc00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5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6" marL="1317600">
              <a:spcBef>
                <a:spcPts val="1199"/>
              </a:spcBef>
              <a:buClr>
                <a:srgbClr val="009999"/>
              </a:buClr>
              <a:buFont typeface="Arial"/>
              <a:buChar char="»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632F-96AF-48FB-A577-B8A031532ADB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2895480"/>
            <a:ext cx="914580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1"/>
          </p:nvPr>
        </p:nvSpPr>
        <p:spPr>
          <a:xfrm>
            <a:off x="228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148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839D-70E1-4D56-9787-478B050D3A13}" type="slidenum">
              <a:rPr b="0" lang="en-US" sz="1000" spc="-1" strike="noStrike">
                <a:solidFill>
                  <a:srgbClr val="99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66"/>
                </a:solidFill>
                <a:latin typeface="Arial"/>
              </a:rPr>
              <a:t>Copyright © Craig Larman. 2000   All Rights Reserved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9120" y="839880"/>
            <a:ext cx="1218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algn="ctr">
              <a:spcBef>
                <a:spcPts val="1199"/>
              </a:spcBef>
              <a:buClr>
                <a:srgbClr val="010000"/>
              </a:buClr>
              <a:buFont typeface="Arial"/>
              <a:buChar char="•"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3" marL="971640" algn="ctr">
              <a:buClr>
                <a:srgbClr val="010000"/>
              </a:buClr>
              <a:buFont typeface="Arial Narrow"/>
              <a:buChar char="–"/>
              <a:tabLst>
                <a:tab algn="l" pos="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010000"/>
              </a:solidFill>
              <a:latin typeface="Arial Narrow"/>
            </a:endParaRPr>
          </a:p>
          <a:p>
            <a:pPr lvl="4" marL="1317600" algn="ctr">
              <a:spcBef>
                <a:spcPts val="499"/>
              </a:spcBef>
              <a:buClr>
                <a:srgbClr val="cc0099"/>
              </a:buClr>
              <a:buFont typeface="Arial"/>
              <a:buChar char="»"/>
              <a:tabLst>
                <a:tab algn="l" pos="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  <a:tab algn="l" pos="4622760"/>
                <a:tab algn="l" pos="48006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5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  <a:p>
            <a:pPr lvl="6" marL="1317600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9360" y="380880"/>
            <a:ext cx="76946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Responsibility-Driven Design with the GRASP Patterns</a:t>
            </a:r>
            <a:endParaRPr b="1" lang="en-US" sz="4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7080" y="3200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77840"/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ontroller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andidates: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n object whose name reflects the use case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139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e.g., RentingVideosUCHandler 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8139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art of the Application Coordination layer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n object whose name reflects the overall server, business, or large-scale entity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139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A kind of “façade” object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8139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e.g., Store, RentingServer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4120" y="914400"/>
          <a:ext cx="380988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14400"/>
                    <a:ext cx="380988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Exercise Time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OK, before learning more patterns, we will practice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We will learn the remaining patterns in this module, at a later time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e will do some detailed object design of the domain layer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llustrating our ideas with collaboration diagram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nd making our design decisions with the GRASP pattern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For each message in the collaboration diagram, we will comment it with the choice of GRASP pattern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Goal: To consciously, methodically apply these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Low Coupling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ssign responsibilities so that coupling remains low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hat does low coupling mean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High Cohesion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ssign responsibilities so that cohesion remains high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hat does high cohesion mean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Polymorphism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How to design for varying, similar cases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ssign a polymorphic operation to the family of classes for which the cases vary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Don’t use case logic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E.g., draw()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quare, Circle, Triangle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Pure Fabrication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here to assign a responsibility, when the usual options based on Expert lead to problems with coupling and cohesion, or are otherwise undersirable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Make up an “artificial” class, whose name is not necessarily inspired by the domain vocabulary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E.g., database persistence in 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Video?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DatabaseFacade?  (a Pure Fabrication)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Indirection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 common mechanism to reduce coupling?</a:t>
            </a:r>
            <a:br>
              <a:rPr sz="2600"/>
            </a:b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ssign a responsibility to an intermediate object to decouple collaboration from 2 other object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Don’t Talk to Stranger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How to design to reduce coupling to knowledge of the structural connections of objects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Don’t traverse a network of object connections in order to invoke an operation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Rather, promote that operation to a “familiar” of the client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Now what happens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hat object should receive this message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hat objects should interact to fulfill the request, and how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95280" y="2833560"/>
          <a:ext cx="6248520" cy="41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33560"/>
                    <a:ext cx="6248520" cy="41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Responsibility-Driven Design (RDD)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Detailed object design is usually done from the point of view of the </a:t>
            </a:r>
            <a:r>
              <a:rPr b="1" i="1" lang="en-US" sz="2600" spc="-1" strike="noStrike">
                <a:solidFill>
                  <a:srgbClr val="010000"/>
                </a:solidFill>
                <a:latin typeface="Arial"/>
              </a:rPr>
              <a:t>metaphor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 of: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Objects have responsibilitie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Objects collaborate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milar to how we conceive of people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n RDD we do object design such that we will ask questions such as: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What are the responsibilities of this object?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Who does it collaborate with?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Responsibilitie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Responsibilities are an abstraction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 responsibility for persistence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Large-grained responsibility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 responsibility for the sales tax calculation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857160" indent="0">
              <a:spcBef>
                <a:spcPts val="1199"/>
              </a:spcBef>
              <a:buNone/>
              <a:tabLst>
                <a:tab algn="l" pos="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More fine-grained responsibility.</a:t>
            </a:r>
            <a:endParaRPr b="1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y are implemented with methods in object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 method in 1 object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5 methods in 1 object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50 methods across 10 objects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Fundamental Principles of Object Design—GRASP Pattern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hat guiding principles to help us assign responsibilities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se principles are captured in the GRASP patterns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General Responsibility Assignment Software Patterns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Very very fundamental, simple, basic principles of object design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The 9 GRASP Patterns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Expert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95360" indent="-495360"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reator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95360" indent="-495360"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ontroller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95360" indent="-495360"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Low Coupling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95360" indent="-495360"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High Cohesion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95360" indent="-495360"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Polymorphism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95360" indent="-495360"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Pure Fabrication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95360" indent="-495360"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Indirection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95360" indent="-495360">
              <a:spcBef>
                <a:spcPts val="1199"/>
              </a:spcBef>
              <a:buClr>
                <a:srgbClr val="993366"/>
              </a:buClr>
              <a:buSzPct val="50000"/>
              <a:buFont typeface="Arial"/>
              <a:buAutoNum type="arabicPeriod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Don’t Talk to Strangers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914400"/>
            <a:ext cx="3733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Memorizing and applying these is the most important, useful objective of this seminar.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(Information) Expert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hat is most basic, general principle of responsibility assignment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95360" indent="0">
              <a:spcBef>
                <a:spcPts val="1199"/>
              </a:spcBef>
              <a:buNone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495360" indent="-49536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Assign a responsibility to the object that has the information necessary to fulfill it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at which has the information, does the work.”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914400" indent="0">
              <a:spcBef>
                <a:spcPts val="1199"/>
              </a:spcBef>
              <a:buNone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.g., What software object calculates sales tax?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AutoNum type="arabicPeriod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What information is needed to do this?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AutoNum type="arabicPeriod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What object or objects has the majority of this information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reator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hat object creates an X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gnores special-case patterns such as </a:t>
            </a:r>
            <a:r>
              <a:rPr b="1" i="1" lang="en-US" sz="2400" spc="-1" strike="noStrike">
                <a:solidFill>
                  <a:srgbClr val="010000"/>
                </a:solidFill>
                <a:latin typeface="Arial"/>
              </a:rPr>
              <a:t>Factory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Choose an object C, such that: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 contains or aggregates X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 closely uses X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99"/>
              </a:buClr>
              <a:buSzPct val="75000"/>
              <a:buFont typeface="Arial"/>
              <a:buChar char="–"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 has the initializing data for X</a:t>
            </a: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</a:tabLst>
            </a:pPr>
            <a:endParaRPr b="1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 more, the better.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ontroller</a:t>
            </a:r>
            <a:endParaRPr b="1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3366"/>
              </a:buClr>
              <a:buSzPct val="50000"/>
              <a:buFont typeface="Monotype Sorts" charset="2"/>
              <a:buChar char=""/>
              <a:tabLst>
                <a:tab algn="l" pos="35568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What object in the domain (or application coordination layer) receives requests for work from the UI layer?</a:t>
            </a:r>
            <a:endParaRPr b="1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95280" y="2438280"/>
          <a:ext cx="6248520" cy="41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6248520" cy="41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15:39:37Z</dcterms:created>
  <dc:creator>Craig Larman</dc:creator>
  <dc:description/>
  <dc:language>en-US</dc:language>
  <cp:lastModifiedBy>Craig Larman</cp:lastModifiedBy>
  <dcterms:modified xsi:type="dcterms:W3CDTF">2000-04-03T03:39:30Z</dcterms:modified>
  <cp:revision>13</cp:revision>
  <dc:subject/>
  <dc:title>No Slide Title</dc:title>
</cp:coreProperties>
</file>