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3E1A-5917-4CAF-8128-D3120A113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F22B-83EA-4433-B2F7-472B30AE1A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6017-6CC5-4D27-B3A3-24E80318CA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ECE8-37C1-401D-9A8C-1CDC3AD1D6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B260-3024-47BA-BDC3-11747AF43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470A-30D3-4EF2-B59B-4A327C867A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CC2D-92C2-4AF3-B839-0D5FEBBB7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8859-5674-447D-A30E-A5C4530AB9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93B8-4DA1-4415-9DAA-939824F0A0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6EC4-4585-48DC-9D6A-E031DF7D5C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9B26-5929-45BB-B99B-9E73571895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3C85-29D5-45C0-B4AC-F74540B51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1F7-2037-45B2-BFCA-F58DBB4BC235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C3E0-1C18-483C-AAB0-0807DCC874D3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Large-Scale System Partitioning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ackage Dependenci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2743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t is useful to show the coupling with UML dependency lin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CASE tool can reverse engineer these diagram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124080" y="838080"/>
          <a:ext cx="55213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5521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Ordering Work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2743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can we start with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can we do in parallel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How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124080" y="838080"/>
          <a:ext cx="55213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5521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dvice: Early Load Testing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n the Elaboration phase, “connect the dots” between the LSEs, application servers, ORBs, databases, and so forth, and do early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realistic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load testing against this skeleton architectur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.e., Load test the core architecture early, before filling in functionality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UP philosophy of the Elaboration phase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Get the correct core architectural design early, before investing in operational-oriented functionality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ystem Partitioning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logical view of the architecture emphasizes large-scale elements (LSEs)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yers, subsystems, modules, framework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Before considering detailed object design, it is recommended to start with a draft design partitioning the system into LSE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. The elemen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2. Their interfaces 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3. The inter-element collaboration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se will change and evolve through the Elaboration phase iteration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Large-Scale Element Collabora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t is Good Thing to achieve early clarification of the interfaces of LSEs, and their collaboration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f course, mutable in the spirit of iterative development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is effort helps to partition parallel design and implementation by worker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Stubs” can be defined for incomplete LSEs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efine the operations and parameters in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detail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Be mindful of coupling and cohesio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er-LSE Coupling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llow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Don’t Talk to Strangers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(Law of Demeter, Whole-Part) patter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void coupling into the internals of an LSE, or across several LSE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Large-Scale Element Collabora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t is a common experience to “reasonably” design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static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partitioning into LSEs without “too much” trouble or error, during early desig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However, the early design of the LSE interfaces and collaborations (dynamics) is usually quite speculative, and unstabl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se will change dramatically during the elaboration phase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y will become more detailed and correct during the detailed object design of individual LSE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nce this is important, the Elaboration phase should focus on their clarification, via iterations that focus on “connecting the dots” between LSEs and on stress/load/evolution evaluatio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6720" y="1143000"/>
            <a:ext cx="5867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3120" y="353880"/>
            <a:ext cx="730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Logical Architecture Desig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5080" y="1206000"/>
            <a:ext cx="493236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art of the Analysis &amp; Design workflow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dentify the macro-level logical partitioning into layers and subsystem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170920" y="122400"/>
            <a:ext cx="507960" cy="549000"/>
            <a:chOff x="8170920" y="122400"/>
            <a:chExt cx="507960" cy="549000"/>
          </a:xfrm>
        </p:grpSpPr>
        <p:sp>
          <p:nvSpPr>
            <p:cNvPr id="99" name=""/>
            <p:cNvSpPr/>
            <p:nvPr/>
          </p:nvSpPr>
          <p:spPr>
            <a:xfrm>
              <a:off x="8170920" y="122400"/>
              <a:ext cx="507960" cy="5490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31040" y="285840"/>
              <a:ext cx="378360" cy="290520"/>
            </a:xfrm>
            <a:custGeom>
              <a:avLst/>
              <a:gdLst/>
              <a:ahLst/>
              <a:rect l="l" t="t" r="r" b="b"/>
              <a:pathLst>
                <a:path w="249" h="177">
                  <a:moveTo>
                    <a:pt x="0" y="165"/>
                  </a:moveTo>
                  <a:lnTo>
                    <a:pt x="174" y="177"/>
                  </a:lnTo>
                  <a:lnTo>
                    <a:pt x="249" y="0"/>
                  </a:lnTo>
                  <a:lnTo>
                    <a:pt x="84" y="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22040" y="492120"/>
              <a:ext cx="259920" cy="49320"/>
            </a:xfrm>
            <a:custGeom>
              <a:avLst/>
              <a:gdLst/>
              <a:ahLst/>
              <a:rect l="l" t="t" r="r" b="b"/>
              <a:pathLst>
                <a:path w="171" h="30">
                  <a:moveTo>
                    <a:pt x="3" y="21"/>
                  </a:moveTo>
                  <a:lnTo>
                    <a:pt x="0" y="0"/>
                  </a:lnTo>
                  <a:lnTo>
                    <a:pt x="171" y="12"/>
                  </a:lnTo>
                  <a:lnTo>
                    <a:pt x="168" y="30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600" bIns="36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8217720" y="487440"/>
              <a:ext cx="23040" cy="79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17720" y="216000"/>
              <a:ext cx="378720" cy="290520"/>
            </a:xfrm>
            <a:custGeom>
              <a:avLst/>
              <a:gdLst/>
              <a:ahLst/>
              <a:rect l="l" t="t" r="r" b="b"/>
              <a:pathLst>
                <a:path w="249" h="177">
                  <a:moveTo>
                    <a:pt x="0" y="165"/>
                  </a:moveTo>
                  <a:lnTo>
                    <a:pt x="174" y="177"/>
                  </a:lnTo>
                  <a:lnTo>
                    <a:pt x="249" y="0"/>
                  </a:lnTo>
                  <a:lnTo>
                    <a:pt x="84" y="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572000" cy="26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228600" y="3579840"/>
          <a:ext cx="8458200" cy="327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579840"/>
                    <a:ext cx="84582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320" y="4495680"/>
            <a:ext cx="3962160" cy="990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dvice: Multi-Tier Layered Architectur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parate presentation and application logic, and other areas of concer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666880"/>
            <a:ext cx="7010280" cy="838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UI Lay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733920"/>
            <a:ext cx="701028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Domain” or “Application Logic” Lay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800600"/>
            <a:ext cx="7010280" cy="144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Services Lay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5181480"/>
            <a:ext cx="2133720" cy="9144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Persistenc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Subsyst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181480"/>
            <a:ext cx="2133720" cy="9144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Logging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Subsyst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181480"/>
            <a:ext cx="2133720" cy="9144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. . 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9840" y="1971720"/>
          <a:ext cx="89218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1971720"/>
                    <a:ext cx="89218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 Simple Logical Architectur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n the UML, the logical partitioning is illustrated with package diagram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Advice: An Application Coordination Layer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onsider an “application coordination layer” whose objects represent use cases. They may also hold session stat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33720" y="2311560"/>
          <a:ext cx="452916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1560"/>
                    <a:ext cx="4529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3T03:38:56Z</dcterms:modified>
  <cp:revision>9</cp:revision>
  <dc:subject/>
  <dc:title>No Slide Title</dc:title>
</cp:coreProperties>
</file>