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F545-87B3-4644-A6CF-398003AD1D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E35B-ACC7-472C-AD2F-E328FD4ACC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C6F4-F871-4DB1-ABD9-8E6FF3CDD7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281C-BC13-4C93-A845-0553702AFF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62E2-3C93-41BD-9128-5A3848BAB0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2FDE-AE50-4542-B963-1F848A308E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F17A-E1ED-445D-B318-7B7D00FC98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D1DE-5E82-4405-80F7-0D3407EFD7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80BD8-9DC4-420E-8C23-838ED61235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23AF-7F6F-4A3A-B387-052F4C87DF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3382-087F-4D31-B62D-113DA57B6C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85CA-FB85-45CE-97A5-9A4381F063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09120" y="84456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857160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3" marL="971640">
              <a:spcBef>
                <a:spcPts val="1199"/>
              </a:spcBef>
              <a:buClr>
                <a:srgbClr val="010000"/>
              </a:buClr>
              <a:buFont typeface="Arial Narrow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4" marL="1317600">
              <a:spcBef>
                <a:spcPts val="1199"/>
              </a:spcBef>
              <a:buClr>
                <a:srgbClr val="cc00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5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6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9B20-2BAE-46FD-915C-5BB4917D09D3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2895480"/>
            <a:ext cx="9145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E47E-F32A-4801-B9D2-06C1ED307902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120" y="83988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algn="ctr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971640" algn="ctr">
              <a:buClr>
                <a:srgbClr val="010000"/>
              </a:buClr>
              <a:buFont typeface="Arial Narrow"/>
              <a:buChar char="–"/>
              <a:tabLst>
                <a:tab algn="l" pos="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 Narrow"/>
            </a:endParaRPr>
          </a:p>
          <a:p>
            <a:pPr lvl="4" marL="1317600" algn="ctr">
              <a:spcBef>
                <a:spcPts val="499"/>
              </a:spcBef>
              <a:buClr>
                <a:srgbClr val="cc0099"/>
              </a:buClr>
              <a:buFont typeface="Arial"/>
              <a:buChar char="»"/>
              <a:tabLst>
                <a:tab algn="l" pos="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  <a:tab algn="l" pos="4622760"/>
                <a:tab algn="l" pos="48006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5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6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9360" y="380880"/>
            <a:ext cx="76946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The Domain Model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7080" y="3200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Attribute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how only “simple” relatively primitive types as attribute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onnections to other concepts are to be represented as associations, not attribute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981080" y="3886200"/>
          <a:ext cx="59436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886200"/>
                    <a:ext cx="59436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Do Not Use Attributes 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o Relate Concept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y not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1905120"/>
          <a:ext cx="8969400" cy="35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96940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An Example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1132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-14400"/>
          <a:ext cx="7391520" cy="681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-14400"/>
                    <a:ext cx="7391520" cy="68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Partitions and illustrates the important domain concept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 classic object-oriented analysis activity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at are the objects of interest in the this domain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ir attributes?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ir relationships?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MPORTANT: Not software objects, but a “visual dictionary” of domain concept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A Domain Model Does Not 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present Software Object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 model of domain concepts, not of software object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 “visual dictionary” of important words in the domain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Uses UML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static structure diagram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notation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-228600" y="3492360"/>
          <a:ext cx="937260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3492360"/>
                    <a:ext cx="937260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erminology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UP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domain model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= book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conceptual mod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28083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Partitioning the Domain Model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2895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Although this is conceptually accurate, a person will not actually draw package boxes around groups as in this example. Rather, a CASE tool will allow “drill down”.</a:t>
            </a:r>
            <a:endParaRPr b="1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124080" y="914400"/>
          <a:ext cx="59436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914400"/>
                    <a:ext cx="59436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Finding Domain Concept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andidate list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bbott” Analysi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Existing analysis pattern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nalysis Patterns, Fowler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ata Model Patterns, Hay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 Data Model Resource Book, Silverston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Association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878040"/>
          <a:ext cx="8458200" cy="52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78040"/>
                    <a:ext cx="8458200" cy="52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Multiplicity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1058760"/>
          <a:ext cx="9144000" cy="47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8760"/>
                    <a:ext cx="914400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Focus on Important Association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062000"/>
          <a:ext cx="7086600" cy="53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2000"/>
                    <a:ext cx="7086600" cy="53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15:39:37Z</dcterms:created>
  <dc:creator>Craig Larman</dc:creator>
  <dc:description/>
  <dc:language>en-US</dc:language>
  <cp:lastModifiedBy>Craig Larman</cp:lastModifiedBy>
  <dcterms:modified xsi:type="dcterms:W3CDTF">2000-04-02T14:14:19Z</dcterms:modified>
  <cp:revision>10</cp:revision>
  <dc:subject/>
  <dc:title>No Slide Title</dc:title>
</cp:coreProperties>
</file>