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BCF4-4F19-40F9-9279-BBD9667315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5AFE-FC19-45C5-B173-0688F766FD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8A89-0879-4A38-A253-BFC2F34703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878D-D02D-4FA4-8736-73D2179B9D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662F-8732-4C23-9DD0-FFEAB2769D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4152-694D-4475-927A-A2C42E4F1D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6816-F6BF-4253-B726-A2FC0AF96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6BAB-6E91-4D3B-A5D9-7C26D78744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2CD6-6696-4D43-8DE4-F8A1C6C63D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9034-F798-44C2-95F9-1FDE6B17EF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11B54-CDDD-4596-992D-A2B6F90856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811E-2921-4D9F-A2FE-C845AE70A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A373-E651-4B0E-8709-CDC73995F88F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9A13-13D3-4C73-B077-4BBC35AC9653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9360" y="380880"/>
            <a:ext cx="76946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Transition to Design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During requirements and analysis work, we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o the right thing”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nderstand the domain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larify and record the constraints and requiremen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sentially ignore thinking about the design, and focus on understanding the problem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. . 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During design, we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o the thing right”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reate a software (and hardware) solution that meets the wishes of the stakeholder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From Requirements to Desig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 set of requirements-oriented artifacts (and thought) inspire design-oriented artifac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-76320" y="1971720"/>
          <a:ext cx="8991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971720"/>
                    <a:ext cx="8991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hanging Hat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ntil this time, we have been wearing an “investigator” hat, essentially ignoring what the solution should b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o the right thing”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Now, we take off the investigator hat, and put on our “designer” ha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o the thing right”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f course, in the context of iterative development, we do this repeatedly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4-03T03:37:19Z</dcterms:modified>
  <cp:revision>5</cp:revision>
  <dc:subject/>
  <dc:title>No Slide Title</dc:title>
</cp:coreProperties>
</file>